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B86-0CCC-45D4-B9FA-E69E340F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CEE-DC07-4069-8691-725655B8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900-5BC0-4FD6-B8F0-BE339FA9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FDF-CC9C-40AE-9F4A-E96E8153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971C-B314-48FA-AAD6-21CA2DA5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F332-4FAE-452F-A8CA-1F8C8D73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AAED-1BE1-455A-8C2A-353069A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54AF-6969-4FFB-9DC4-C6331B23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08DB-0F6D-47A2-94CA-177364AB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7F6-CB1B-4E2A-9C43-748F3D55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E96-AEEF-4B97-93F2-D5C1C3B8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6B4-DE8F-429C-9949-020FC34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9C73-8956-4913-BF11-4CF1EB93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2033-D5A3-47B9-A606-0099447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75C-6A99-4F5A-9A0B-78C9C486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B6CC-BE07-4821-977D-B10801A5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B6D-6C99-410C-9F94-BC406134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622FF-36A2-4EF3-93B2-558C200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ABA5F-A086-4AD2-927B-AD906033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EBAF-EB5A-4105-A6E7-6D8B429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3090-9645-4893-8030-5E6944D1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75BB-BF76-4FA8-BAD9-33EACB0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5C5-143B-4759-9B67-245D40D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5DA1-C084-42ED-A467-C87489FD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DECA-B52F-4BA4-B25E-2542122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02F5-7377-468A-9AF7-064C89CC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9D0E-C8CE-4856-91CB-E4C27A8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F373-44FC-43CA-8E2F-61512C5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13129-691D-4689-AA85-0DF2290B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2CEB-13F1-4757-92EF-42E489D7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A7DD-7B0E-42ED-BC3D-9C2E577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CC6-1CFD-4BA8-96DC-AEB08B94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D37-7E9A-4F78-9AA6-8896CF2B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D25-0CCD-4201-9510-7471119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012-6EC9-4A57-8883-E94486D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4D5-3DC9-409B-953B-18FB9EA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2154-DEBD-412F-9F37-7730627E6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8200-7DB9-4769-930D-3FA1E03265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5C8B-8D55-4C84-A15C-70D686C281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197840" cy="24130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NFERENCE Poems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2743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ch Me If You Can</a:t>
            </a:r>
            <a:br>
              <a:rPr sz="2800"/>
            </a:b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somebody hits m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rowd always cheers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on't understand i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t brings me to tear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thrills people sill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row me arou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ake me go bounc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ross the hard groun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ve I do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serve this cruel fat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ve gone from just ma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ompletely irate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battered by ba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to make the crowd shou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m sick of this game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's not safe, I want out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AM I?</a:t>
            </a:r>
            <a:br>
              <a:rPr sz="18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o Chango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a powerful stick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a masterful thing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go "poof" and a flow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 into a ring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go "zap" and a bunny'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mall, yellow bir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change anyth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just one magic wor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ng magic is gr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crowd loves my work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say "ooooh" and sigh "aaaaah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kids go beserk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's a wondeful gi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'll never regret i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silly magic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all of the credit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 I?</a:t>
            </a: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ld Hard Fact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I'm very squa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ometimes I'm very har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heat me up and so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ve melted like a tub of lar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ook excellent in glasse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look lovely in a tray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ith me inside your cool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picnic all darn day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kids fall down in footba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make sure their wounds don't swell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en someone has a bloody li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mfort them as well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eat me when I'm soli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rink me when I'm no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although I suffer freezer burn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not what you'd call hot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 I?</a:t>
            </a:r>
            <a:br>
              <a:rPr sz="1800"/>
            </a:br>
            <a:br>
              <a:rPr sz="16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ing The Grad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a teacher announce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'll prob'ly be coming real soon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scramble for books, study 'specially hard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z they don't want to look like a goon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when a kid takes me home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displayed proudly up on a shelf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other kids don't give me credit at all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 don't give out credit myself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to earn what you get from me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'm an honest reflection of you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teacher writes down some big letters all bas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your work and the answers you knew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whether I'm covered with A's or with D'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ether you've passed or you've failed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remember, not bringing me home doesn't work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hey, I can always be mailed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 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680240" y="3618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5:55:51Z</dcterms:created>
  <dc:creator>North Rockland Schools</dc:creator>
  <dc:description/>
  <dc:language>en-US</dc:language>
  <cp:lastModifiedBy>Beth</cp:lastModifiedBy>
  <dcterms:modified xsi:type="dcterms:W3CDTF">2010-09-04T21:55:17Z</dcterms:modified>
  <cp:revision>9</cp:revision>
  <dc:subject/>
  <dc:title>INFERENCE EXERCISES</dc:title>
</cp:coreProperties>
</file>